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F89-B733-47E2-BA6A-06B77A32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477-70A1-40FD-971D-2814144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E3C-F11B-4F78-9833-7DA693BC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FF8-41E7-49AB-91C4-56854EF4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8CB-7A83-432B-AD78-DDAA9C0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ADC-1190-469F-928C-A7EE59F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0EF-AE44-4D22-8973-A8E0BE87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19B-7001-4016-B141-4D9A0F1E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68D-33DE-4658-AD04-787AF6F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E31-0C91-4FC5-AFCC-46E958C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EDD-6145-411B-839F-3F38910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F8E-8E2C-416C-A894-7197053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721C-8275-463D-A90D-567F8967088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Baseball in Japa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y Parker Davis+Dylan Kre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920" y="228240"/>
            <a:ext cx="175248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chir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00600" y="1371600"/>
            <a:ext cx="4038480" cy="49528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chiro came to play in the MLB in 2001 and was the rookie of the year, AL MVP, stolen base leader,was the hits leader,and was in the all-star game that year and has been to everyone since.In the 2007 all-star game he was the MVP.Has had 8 200 hit seasons,7 100 runs scored seasons,7 times AL singles leader,4 time AL hit leader, 5 time at bad leader,2 time silver slugger award winner,and an 8 time gold glove win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1480" y="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adaharu Oh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81120" y="990360"/>
            <a:ext cx="3581640" cy="56386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h spent his whole career in Japan playing for the Yomiuri Giants and now is a manger. But during his career he had a batting average of .301, hit 868 (A world record),had 2,786 hits, and a 1.079 Career OPS a Japanese rec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81120" y="533520"/>
            <a:ext cx="4496040" cy="22096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Verdana"/>
              </a:rPr>
              <a:t>Daisuke Matsuzak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610480" cy="37339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Verdana"/>
              </a:rPr>
              <a:t>Daisuke was always a star pitcher. He made it to the NPB at the age of 18. In the 8 years he was there he had a gold glove every year, lead the Pacific league in strikeouts for 4 years,ERA in 2, and wins in 3.But during the off season of 2006 he made a deal with the Boston Red Sox of $51,111,111.11, over a 4 year deal with a $2,000,000 signing bonus. In his last 2 seasons he is 33-15 with 355 strike outs.He still has 2 years left on his contra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idek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3124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Hideki Godzilla” Matsui  Godzilla played for the Gaints in japan for 9 years.He was a 3 time MVP, won the japan series 3 times, made the all star game 9 times, and led the league in homeruns and rbi's 3 times. When he first got signed by the Yankees he had a parade in his honor before he left. He signed with the Yankees for $52,000,000 over 4 years. He did not miss a game in his first 3 seasons putting up a 518 game played streak.In Total while being with the Yankess he has made 60,000 000 million doll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Japanese Baseball Wor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657600" cy="5410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nshu- P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a- H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nda- Sing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ruida- dou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anruida- Tri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nruida- Hom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ida- Sa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nt- Gi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ac- f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nto- Complete G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mpu- Shuto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npatsu- Star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nzen- Perf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anda- No hi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tokuten- No ru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ff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29:57Z</dcterms:created>
  <dc:creator>Yale SD#34</dc:creator>
  <dc:description/>
  <dc:language>en-US</dc:language>
  <cp:lastModifiedBy>rodfaulkner</cp:lastModifiedBy>
  <dcterms:modified xsi:type="dcterms:W3CDTF">2008-12-01T18:45:51Z</dcterms:modified>
  <cp:revision>4</cp:revision>
  <dc:subject/>
  <dc:title>Baseball in Japan</dc:title>
</cp:coreProperties>
</file>